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285-826E-4769-A217-09D135BF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FC0-EE8B-4AF9-95BC-9BA6A4E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790-E684-44FE-83FD-384F60F9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C06-7DC5-44B6-99BB-83C0693D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B71-C325-4EB2-8023-09C68D3B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E47-A79D-4230-87E6-5A0B931A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042-34CB-4800-9E6F-9D01A19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491-7804-4256-8640-07BFE26D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5FB-16BF-4FBB-B0D5-24DBC13E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08D-6631-451E-A94F-A6365BD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917-DB3E-49A7-85CA-B827F12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501-7701-4D36-BE4F-266EB102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FD7E-A25D-42FA-A545-69F63F5D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71034"/>
          <a:stretch/>
        </p:blipFill>
        <p:spPr>
          <a:xfrm>
            <a:off x="404640" y="1403280"/>
            <a:ext cx="6453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-58" t="28970" r="0" b="0"/>
          <a:stretch/>
        </p:blipFill>
        <p:spPr>
          <a:xfrm>
            <a:off x="0" y="1116000"/>
            <a:ext cx="68580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38:18Z</dcterms:created>
  <dc:creator>Betsan Thomas</dc:creator>
  <dc:description/>
  <dc:language>en-US</dc:language>
  <cp:lastModifiedBy>Betsan Thomas</cp:lastModifiedBy>
  <dcterms:modified xsi:type="dcterms:W3CDTF">2007-05-08T19:44:04Z</dcterms:modified>
  <cp:revision>2</cp:revision>
  <dc:subject/>
  <dc:title>Slide 1</dc:title>
</cp:coreProperties>
</file>